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E4564-A88D-48BC-8007-50453C515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B1351-0452-4C68-8D5B-F192FA80A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A8D75-F951-454E-ACD4-5401CE49C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BCDEB-CA75-497D-AA93-53291EEDE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74F09-F99D-495E-A91F-D9579CA20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3FC6E-5E5F-45BC-968D-BE3FFC584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88066-AD2F-4382-8AFE-D6B2549A3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6CBEF-0970-4ED6-A0DD-754D8272A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55E33-EC5F-41E2-A156-4B545F601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DC6DE-6DE7-4E5B-9FDB-3F4424FE1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8F283-3FE2-428E-86E8-9B67E8640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6352C-788B-4041-9489-7D204D962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928C-ECAE-47C2-BBB0-7AF9236D6B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268360" y="4437000"/>
            <a:ext cx="48196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siunea iunie-iuli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5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0000"/>
            </a:gs>
          </a:gsLst>
          <a:lin ang="81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p:transition advTm="5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Tree>
  </p:cSld>
  <p:transition advTm="5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2b2</cp:lastModifiedBy>
  <dcterms:modified xsi:type="dcterms:W3CDTF">2012-06-18T10:51:17Z</dcterms:modified>
  <cp:revision>39</cp:revision>
  <dc:subject/>
  <dc:title>SALARIUL</dc:title>
</cp:coreProperties>
</file>